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219-5313-4704-8658-0B5B2A84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781-B0E2-42DB-8553-1E7AC77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5B7-7209-48A9-8193-CEE4CD2E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4AA-BE29-4E32-87D0-8FA3A936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508-0ACA-4C8D-9540-BD95225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3B0-9B8E-48F9-9343-33B38F1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10E-37F3-49B3-B599-EAFFCC44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F60-AF2B-42B4-826E-8F93B4CF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E5F-ADF0-402C-B436-DF8C5D4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328-5DB3-4C56-9626-B39ED88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798-D01B-4F94-83D3-CEE1C2EC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6E3-E53B-42D4-ADE6-A36CE72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BAB8-B121-46C2-88E6-8B320860BE0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Prédikálószé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1840" y="126828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14840" y="1268280"/>
            <a:ext cx="427824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99"/>
                </a:solidFill>
                <a:latin typeface="Garamond"/>
              </a:rPr>
              <a:t>Köszönöm a figyelme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68360" y="260280"/>
            <a:ext cx="8229600" cy="6048360"/>
            <a:chOff x="468360" y="260280"/>
            <a:chExt cx="8229600" cy="60483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8229600" cy="60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468360" y="260280"/>
              <a:ext cx="8229600" cy="604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Fjordok, vízes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ccff99"/>
                </a:solidFill>
                <a:latin typeface="Garamond"/>
              </a:rPr>
              <a:t>Lofoten-szig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4038840" cy="260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88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2492280"/>
            <a:ext cx="4032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Északi-sarkkö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216080"/>
            <a:ext cx="8136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ccff99"/>
                </a:solidFill>
                <a:latin typeface="Garamond"/>
              </a:rPr>
              <a:t>Igloo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82296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ccff99"/>
                </a:solidFill>
                <a:latin typeface="Garamond"/>
              </a:rPr>
              <a:t>Nordka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8229600" cy="518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Érdekes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Garamond"/>
              </a:rPr>
              <a:t>Grillezett laz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Garamond"/>
              </a:rPr>
              <a:t>Kevés alkohol, </a:t>
            </a:r>
            <a:br>
              <a:rPr sz="2800"/>
            </a:br>
            <a:r>
              <a:rPr b="1" lang="en-US" sz="2800" spc="-1" strike="noStrike">
                <a:solidFill>
                  <a:srgbClr val="ccff99"/>
                </a:solidFill>
                <a:latin typeface="Garamond"/>
              </a:rPr>
              <a:t>sok ká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Garamond"/>
              </a:rPr>
              <a:t>Benzinku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Garamond"/>
              </a:rPr>
              <a:t>Füves tetejű </a:t>
            </a:r>
            <a:br>
              <a:rPr sz="2800"/>
            </a:br>
            <a:r>
              <a:rPr b="1" lang="en-US" sz="2800" spc="-1" strike="noStrike">
                <a:solidFill>
                  <a:srgbClr val="ccff99"/>
                </a:solidFill>
                <a:latin typeface="Garamond"/>
              </a:rPr>
              <a:t>faház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19640" y="1812960"/>
            <a:ext cx="54734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Garamond"/>
              </a:rPr>
              <a:t>Magyarország és Norvégia kapcsolata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1947-48-ben kezdődtek az együttműköd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Oslón kívül 2 városban tiszteletbeli kon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2004. május 1-jét követően szorosabb kapcso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2002-ben hazánkban járt V. Harald norvég király és Sonja király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Jan Garbarek magyarországi koncertje (máj.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Garamond"/>
              </a:rPr>
              <a:t>Magyarország és Norvégia kapcsolata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Nincs külképviselete az MT Zrt-nek Oslo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Norvég beutazók forgalma jelentősen növeked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Skandináv Utazási Köz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11 napos körutak repülővel ill. bussz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9:33:42Z</dcterms:created>
  <dc:creator>Kiraly</dc:creator>
  <dc:description/>
  <dc:language>en-US</dc:language>
  <cp:lastModifiedBy>Kiraly</cp:lastModifiedBy>
  <dcterms:modified xsi:type="dcterms:W3CDTF">2006-05-12T09:44:37Z</dcterms:modified>
  <cp:revision>6</cp:revision>
  <dc:subject/>
  <dc:title>NORVÉGIA</dc:title>
</cp:coreProperties>
</file>